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B4BD-56B1-44B0-B1A3-D5BD176A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28A-7DE4-4B03-AC6E-B88E618A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8A7-C55D-4894-B94F-C91AD214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10C-0DA1-406C-8856-8E4D0AF9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22AC-77FA-4A87-8E44-F889ABAB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B104-B879-4E3B-97DA-36931B92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3E06-5974-4E26-8F43-DF9B6BAF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0FB0-DD2B-4714-A807-DBF9B79A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C34D-90D2-4D3C-A5E4-D9AE6232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C3C-E67F-4459-B4B5-B79A50C1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958-1944-4FAE-8BA2-D3B735D1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F40-6C4E-472B-9D64-A3E87CC5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6633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6C15-2DB1-4A30-81E0-0231C208A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6633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onotype Corsiva"/>
              </a:rPr>
              <a:t>This is me uniqu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By: Ashley Nix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" dur="1" fill="hold"/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6633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ff"/>
                </a:solidFill>
                <a:latin typeface="Monotype Corsiva"/>
              </a:rPr>
              <a:t>Past</a:t>
            </a: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Monotype Corsiva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My place of birth is in Galveston, Tex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Monotype Corsiva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I have a lovely family very big and a lot of k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Monotype Corsiva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I attend Ozen High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Monotype Corsiva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I don’t have a job yet , but im still waiting on jack-in-the-box to call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Monotype Corsiva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My friends are more like sisters to me Latriace Franklin, Ashley Celestine, and my sister Angel Nix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6633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Monotype Corsiva"/>
              </a:rPr>
              <a:t>Present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Kozuka Gothic Pro E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I am very creative, intelligent, independent, caring, leader, short, and very pret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Kozuka Gothic Pro E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My favorite foods is Toni's deep-dish pizzas,! crawfish, my moms pork cho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Kozuka Gothic Pro E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My favorite place is my godmother’s house and the m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Kozuka Gothic Pro E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My favorite music is beyonce’s music and my favorite song is BeBe and CeCe Winans - Addictive lo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Kozuka Gothic Pro E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Favorite sports is basketba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Kozuka Gothic Pro E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Celebrity is Beyonce’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6633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Monotype Corsiva"/>
              </a:rPr>
              <a:t>Future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My future goal is to become a cosmetologist and do nails and hai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I want to own my beauty shop in five year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10 years from now I want to do some celebrity’s hai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My family goals is to get alone because other people is not going to be there we are! Career goals is too help with my shop put a little of each and everyone in i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6633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onotype Corsiva"/>
              </a:rPr>
              <a:t>More 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I love to sing, dance, do hair, and listen to BeBe and CeCe Winans – Addictive Lo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In my spare time I like to go to my godmother’s hou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My favorite class is multimedia Mrs.. We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90000"/>
              </a:lnSpc>
              <a:spcBef>
                <a:spcPts val="2200"/>
              </a:spcBef>
              <a:buClr>
                <a:srgbClr val="ffffff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Monotype Corsiva"/>
              </a:rPr>
              <a:t>The en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5:39:58Z</dcterms:created>
  <dc:creator>768984</dc:creator>
  <dc:description/>
  <dc:language>en-US</dc:language>
  <cp:lastModifiedBy>768984</cp:lastModifiedBy>
  <dcterms:modified xsi:type="dcterms:W3CDTF">2009-04-09T16:11:41Z</dcterms:modified>
  <cp:revision>3</cp:revision>
  <dc:subject/>
  <dc:title>This is me unique</dc:title>
</cp:coreProperties>
</file>